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F79A-B571-4711-B30C-170E7C9C87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3B43-7451-4045-AD77-C20B9BB699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50B-D9A3-457D-AC0E-92DDD20B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77B-3607-4B19-A6F5-BA7962AC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EAD-E4C3-4315-8700-1EAE6AE5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6E8-C2A9-432B-BD0C-A34A6454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018A-598A-4A0A-9536-9C52E4B9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1285-3BFF-4B01-992C-A99C4AC0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FEA4-7BC7-4008-B710-BB9A4C71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AF3E-E07D-4440-AB23-AC61A3FE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F996-4A12-49BB-9A07-00A283FB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DC0F-C5D7-4A88-9FAB-7F8D6326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3F61-D32E-460B-B13B-41952362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375-EEFE-4067-B08C-16D692F6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D709-DE0A-48BE-8C70-59B8C2B4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D750-E592-447F-882B-73EFCC76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DB8D-9991-4D90-8FC9-D9A732DE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35BF-D824-4771-B469-2CAD0FDC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293C-456F-4B29-B194-5BE6E45A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4781-E1DE-44E6-A42D-859D30BA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25F9D-C4AA-400E-9144-7CE02CB4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5B8E-B231-4547-A13C-0DF76370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FEBDA-82C7-49EF-BC01-EF39F707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6BB0E-2E58-4716-B14C-BEB9D78D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22C-60BA-4099-B075-2051BAD0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D0FB-AC28-4230-8C7E-1C82B27C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8223-FA6E-48AD-9841-393797A7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E19D-3C81-47F7-986B-53016B74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E0F4-0A20-4D0C-A942-F562CA08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356B1-D90C-4EA7-9E1A-4A731F6B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CE4B-B364-4879-BDFB-359D2D84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4BCF3-6B02-431C-9825-CCB7821B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A4CC5-8926-4191-BC54-47C9881C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7EEB0-8055-4746-8E76-82E74658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5474-2AB1-43C8-BDA9-D873C130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BF2-EE7A-4AEC-AA69-8BF0C38E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1DE9F-7645-4CCD-A363-B7840522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9CD1F-E956-4634-83E1-E2744973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E4C4-F518-4DB0-84AA-83BCDCDF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0314-AA12-4160-A2D1-CF80DE9E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A07BC-2447-4D77-AC03-0B52FD1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B3EA4-B7F1-4952-AF3F-AF868584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6278F-8857-48D9-BF2F-9F71664E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E9F7E-645F-43B9-BEE4-9729B3E5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A6B1B-94EE-40A8-94BE-BA5A4E73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D6B44-38DF-4A7E-9364-28CE6587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341-8F6D-4FCC-9730-33D31A6B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7A96-DF8A-4656-8500-4932E69C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F459-494E-4A5B-8D40-38F7C290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C8ED7-6A65-4375-996A-55ABFD90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B9FC1-B3F0-4C8D-8B36-329865F9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C3C51-19E5-4D5E-A165-7501DD5C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E0D2F-58D9-45F7-A87D-70DCB1D8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EEF7A-0343-4050-8310-E2747FA2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6EFF1-AD6F-4E3B-9121-197B257A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93B21-C674-4917-A734-DC8ECE10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29C60-F4EE-4591-B448-AB91784B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A3B-4188-427E-94AE-B597A2E2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D614A-0379-47A7-AAF1-7F8B0C82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DE5-9DF7-4603-BDDF-93983024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CE0-233D-4B19-9787-CCDA9E36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82F-2DFE-4EA9-8402-A2CD976C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7637-4F15-41FA-8196-92D04800E34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FEEC-DF61-4BE0-BFD2-2390B9AF62D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7AE1-57C6-48F0-848D-871349EB9C3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7A21-63B4-4C79-96EA-C5C8E28CC9C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116-0194-4E63-A356-3F68727B07F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 2\a289aaeead17cc1b951f22fd15d9a73e.jpg"/>
          <p:cNvPicPr/>
          <p:nvPr/>
        </p:nvPicPr>
        <p:blipFill>
          <a:blip r:embed="rId1"/>
          <a:stretch/>
        </p:blipFill>
        <p:spPr>
          <a:xfrm>
            <a:off x="826920" y="80172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1:25Z</dcterms:modified>
  <cp:revision>38</cp:revision>
  <dc:subject/>
  <dc:title>ТВОРЧЕСКАЯ ДЕЯТЕЛЬНОСТЬ: ЗНАКОМСТВО С ТЕХНИКОЙ ИЗОНИТЬ</dc:title>
</cp:coreProperties>
</file>